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C16DD-171F-4DBB-A09B-704A0131A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B8BC-1705-4AF9-8172-E279C1D7E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FDC1A-C9E5-49BE-90B6-C5B612035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3AD35-E765-448F-895E-1FBB4A806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0956B-F86D-4B44-A0CD-35773CCDC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3DA80-9905-4CE5-AAF5-35ECD7176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A4404-B525-4138-83C0-045157500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6B49-3DD3-4913-AD8F-16765E05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B54F-5F86-4B9E-8419-4563F3E4F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7BD3-7738-47F4-ADB3-F7F692457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87D5-ADEB-4BD7-A58D-3F91F415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95CA-04A6-4552-A688-F5010F2CC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10C6-DD28-460A-9E02-57EC2319F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video" Target="file:///tmp/home/.config/libreoffice/4/user/gallery/Recorded%20Sound4" TargetMode="External"/><Relationship Id="rId3" Type="http://schemas.microsoft.com/office/2007/relationships/media" Target="file:///tmp/home/.config/libreoffice/4/user/gallery/Recorded%20Sound4"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video" Target="file:///tmp/home/.config/libreoffice/4/user/gallery/Recorded%20Sound5" TargetMode="External"/><Relationship Id="rId3" Type="http://schemas.microsoft.com/office/2007/relationships/media" Target="file:///tmp/home/.config/libreoffice/4/user/gallery/Recorded%20Sound5"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video" Target="file:///tmp/home/.config/libreoffice/4/user/gallery/Recorded%20Sound6" TargetMode="External"/><Relationship Id="rId4" Type="http://schemas.microsoft.com/office/2007/relationships/media" Target="file:///tmp/home/.config/libreoffice/4/user/gallery/Recorded%20Sound6" TargetMode="External"/><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333399"/>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gradFill rotWithShape="0">
            <a:gsLst>
              <a:gs pos="0">
                <a:srgbClr val="bbe0e3"/>
              </a:gs>
              <a:gs pos="100000">
                <a:srgbClr val="009999"/>
              </a:gs>
            </a:gsLst>
            <a:lin ang="5400000"/>
          </a:gradFill>
          <a:ln w="936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Henry’s Freedom Box</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old By: Teryn Thomas</a:t>
            </a:r>
            <a:endParaRPr b="0" lang="en-US" sz="3200" spc="-1" strike="noStrike">
              <a:solidFill>
                <a:srgbClr val="000000"/>
              </a:solidFill>
              <a:latin typeface="Arial"/>
            </a:endParaRPr>
          </a:p>
        </p:txBody>
      </p:sp>
      <p:pic>
        <p:nvPicPr>
          <p:cNvPr id="43" name="" descr=""/>
          <p:cNvPicPr/>
          <p:nvPr/>
        </p:nvPicPr>
        <p:blipFill>
          <a:blip r:embed="rId1"/>
          <a:stretch/>
        </p:blipFill>
        <p:spPr>
          <a:xfrm>
            <a:off x="7315200" y="304920"/>
            <a:ext cx="1434960" cy="1674720"/>
          </a:xfrm>
          <a:prstGeom prst="rect">
            <a:avLst/>
          </a:prstGeom>
          <a:ln w="0">
            <a:noFill/>
          </a:ln>
        </p:spPr>
      </p:pic>
      <p:pic>
        <p:nvPicPr>
          <p:cNvPr id="44"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p:stCondLst>
                                    <p:cond delay="0"/>
                                  </p:stCondLst>
                                  <p:childTnLst>
                                    <p:animMotion origin="layout" path="M -0.13542 0.06428 C -0.14254 0.0363 -0.15191 0.02312 -0.16736 0.00278 C -0.17622 -0.00901 -0.18004 -0.02219 -0.19254 -0.02682 C -0.20469 -0.04231 -0.22865 -0.04971 -0.24497 -0.05202 C -0.2566 -0.05133 -0.26823 -0.05179 -0.28004 -0.04994 C -0.29184 -0.04809 -0.3007 -0.02844 -0.31007 -0.02034 C -0.31701 -0.00162 -0.32587 0.02359 -0.34184 0.03029 C -0.3467 0.037 -0.3507 0.037 -0.35781 0.03885 C -0.37396 0.03815 -0.39045 0.03862 -0.40677 0.03677 C -0.40868 0.03653 -0.4099 0.03353 -0.41163 0.03237 C -0.42153 0.02567 -0.43125 0.01596 -0.44184 0.01133 C -0.4474 0.00578 -0.44965 -0.00069 -0.45608 -0.00347 C -0.46892 -0.01479 -0.47691 -0.03029 -0.49254 -0.03722 C -0.50677 -0.05017 -0.51892 -0.04092 -0.53698 -0.03722 C -0.54219 -0.03075 -0.54636 -0.02543 -0.55313 -0.02242 C -0.55955 -0.01364 -0.56754 -0.0111 -0.57535 -0.00347 C -0.58715 0.00856 -0.59705 0.02567 -0.61007 0.03468 C -0.61545 0.04925 -0.625 0.05619 -0.63386 0.06636 C -0.64063 0.07422 -0.64271 0.07954 -0.65122 0.08324 C -0.65886 0.08185 -0.66632 0.08208 -0.67344 0.07908 C -0.67535 0.07838 -0.6757 0.07492 -0.67674 0.0726 C -0.67969 0.0659 -0.68281 0.05896 -0.68455 0.05156 C -0.68542 0.04093 -0.68438 0.02937 -0.68785 0.01989 C -0.69462 0.00139 -0.71111 -0.00555 -0.72431 -0.01202 C -0.72465 -0.01202 -0.74358 -0.01202 -0.74965 -0.00763 C -0.75729 -0.00208 -0.76198 0.00532 -0.76892 0.01133 C -0.78472 0.02567 -0.76094 -0.000920000000000001 -0.7783 0.01758 C -0.78281 0.02243 -0.78542 0.02567 -0.79097 0.02821 C -0.79201 0.03029 -0.79271 0.03284 -0.7941 0.03468 C -0.79549 0.03653 -0.79792 0.03677 -0.79896 0.03885 C -0.80174 0.04393 -0.80261 0.05041 -0.80521 0.05573 C -0.81094 0.06682 -0.81424 0.07815 -0.81962 0.08948 C -0.82222 0.10405 -0.82396 0.11977 -0.82743 0.13388 C -0.82795 0.16347 -0.82778 0.19307 -0.82899 0.22266 C -0.82969 0.23723 -0.83038 0.23677 -0.83559 0.24393 C -0.83906 0.25573 -0.84063 0.26798 -0.84497 0.27977 C -0.84688 0.28971 -0.84931 0.29942 -0.85122 0.30937 C -0.84948 0.41295 -0.85556 0.37804 -0.8434 0.42775 C -0.84011 0.45942 -0.83333 0.48648 -0.82587 0.5163 C -0.8224 0.53064 -0.82205 0.53688 -0.81962 0.5526 C -0.81892 0.55815 -0.81372 0.56948 -0.81163 0.57573 C -0.80833 0.58567 -0.80729 0.59561 -0.80365 0.60532 C -0.80156 0.61688 -0.80087 0.62729 -0.79566 0.63677 C -0.79514 0.63908 -0.79427 0.64116 -0.7941 0.64347 C -0.7934 0.6511 -0.79375 0.65896 -0.79254 0.66659 C -0.79184 0.67099 -0.78889 0.67492 -0.78802 0.67931 C -0.78576 0.69596 -0.7809 0.71099 -0.7783 0.72786 C -0.7757 0.74636 -0.77639 0.76463 -0.77188 0.78289 C -0.77083 0.80093 -0.77257 0.80902 -0.76406 0.82104 C -0.76094 0.83191 -0.76458 0.82382 -0.75608 0.83145 C -0.74583 0.8407 -0.74601 0.83792 -0.73073 0.84 C -0.71563 0.84578 -0.69965 0.84833 -0.68455 0.8548 C -0.62934 0.84324 -0.64879 0.85179 -0.62431 0.83792 C -0.6158 0.83307 -0.60608 0.83468 -0.5974 0.82937 C -0.58785 0.82359 -0.57986 0.81388 -0.57031 0.80833 C -0.56424 0.80486 -0.55122 0.79977 -0.55122 0.79977 C -0.53368 0.78174 -0.51667 0.76463 -0.49913 0.74705 C -0.49844 0.74474 -0.49861 0.7422 -0.4974 0.74035 C -0.49306 0.7348 -0.48299 0.72578 -0.48299 0.72578 C -0.4809 0.71723 -0.4783 0.71284 -0.47344 0.70659 C -0.46997 0.68347 -0.47517 0.70544 -0.46736 0.69203 C -0.46615 0.69041 -0.46667 0.6874 -0.46563 0.68578 C -0.46389 0.68301 -0.46129 0.68139 -0.4592 0.67931 C -0.45712 0.67515 -0.45556 0.67029 -0.45295 0.66659 C -0.44948 0.66151 -0.44201 0.65596 -0.43854 0.64971 C -0.43715 0.64717 -0.43663 0.64393 -0.43559 0.64116 C -0.43247 0.63538 -0.42587 0.62428 -0.42587 0.62428 C -0.42309 0.61318 -0.41858 0.6007 -0.41007 0.59677 C -0.40851 0.59561 -0.40695 0.59376 -0.40521 0.5926 C -0.40382 0.59168 -0.40104 0.5926 -0.40052 0.59052 C -0.39722 0.57503 -0.40851 0.56879 -0.41632 0.56509 C -0.42136 0.55885 -0.42587 0.55677 -0.43229 0.55445 C -0.43872 0.54567 -0.44566 0.54127 -0.45451 0.53758 C -0.46076 0.53133 -0.46424 0.52763 -0.47188 0.52509 C -0.48403 0.51422 -0.47761 0.51746 -0.49097 0.51445 C -0.5132 0.52139 -0.51788 0.557 -0.53229 0.57573 C -0.53542 0.58382 -0.53889 0.59099 -0.54184 0.59908 C -0.54566 0.61989 -0.54445 0.60994 -0.54653 0.62867 C -0.54601 0.66243 -0.54705 0.69642 -0.54497 0.73018 C -0.54375 0.75006 -0.5342 0.7822 -0.52604 0.79977 C -0.52344 0.80532 -0.51962 0.81041 -0.51806 0.81665 C -0.51528 0.8259 -0.51458 0.83075 -0.50851 0.83792 C -0.50538 0.84162 -0.5007 0.84255 -0.4974 0.84625 C -0.48542 0.86012 -0.4809 0.87237 -0.46563 0.88231 C -0.45521 0.88925 -0.44184 0.89041 -0.43073 0.89295 C -0.4217 0.89226 -0.4125 0.89272 -0.40382 0.89064 C -0.3849 0.88601 -0.36493 0.87561 -0.3467 0.86752 C -0.33229 0.84833 -0.31406 0.84532 -0.2941 0.84208 C -0.29167 0.83862 -0.28837 0.83561 -0.28646 0.83145 C -0.27257 0.80509 -0.29028 0.83145 -0.28004 0.81665 C -0.27899 0.81249 -0.27778 0.80833 -0.27674 0.80416 C -0.27622 0.80208 -0.27535 0.79769 -0.27535 0.79769 C -0.27309 0.77341 -0.27778 0.72971 -0.26736 0.71099 C -0.26511 0.70729 -0.26076 0.70844 -0.25764 0.70659 C -0.24913 0.70266 -0.24045 0.69919 -0.23229 0.69411 C -0.21788 0.68463 -0.20573 0.67838 -0.19583 0.66035 C -0.18368 0.63838 -0.19497 0.65665 -0.18299 0.62867 C -0.16372 0.5822 -0.18368 0.64301 -0.16233 0.57781 C -0.15521 0.55515 -0.15191 0.53064 -0.14497 0.50821 C -0.14601 0.50336 -0.14601 0.49781 -0.14826 0.49341 C -0.14913 0.49156 -0.15156 0.49203 -0.15295 0.4911 C -0.16511 0.48393 -0.15399 0.48925 -0.16406 0.48486 C -0.17205 0.48555 -0.18038 0.48393 -0.18785 0.48694 C -0.19271 0.48833 -0.19636 0.49388 -0.20052 0.49758 C -0.21563 0.51052 -0.22344 0.5274 -0.23229 0.54821 C -0.23837 0.57688 -0.24219 0.60301 -0.24497 0.63284 C -0.24445 0.67237 -0.24445 0.71168 -0.24358 0.75099 C -0.24306 0.76648 -0.24132 0.78405 -0.2309 0.79145 C -0.23004 0.7933 -0.22292 0.81249 -0.22118 0.81457 C -0.20399 0.83492 -0.16823 0.83792 -0.14653 0.84 C -0.12049 0.83561 -0.07292 0.83122 -0.04497 0.81665 C -0.03264 0.81018 -0.02188 0.79954 -0.01007 0.79145 C 0.01354 0.77526 0.02066 0.77272 0.04549 0.75977 C 0.09271 0.70289 0.11476 0.65179 0.13767 0.57364 C 0.14323 0.55445 0.15347 0.52255 0.15347 0.49966 E">
                                      <p:cBhvr>
                                        <p:cTn id="6" dur="5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4"/>
                    </p:tgtEl>
                  </p:cond>
                </p:stCondLst>
                <p:childTnLst>
                  <p:par>
                    <p:cTn id="8" fill="hold">
                      <p:stCondLst>
                        <p:cond evt="onClick">
                          <p:tgtEl>
                            <p:spTgt spid="44"/>
                          </p:tgtEl>
                        </p:cond>
                      </p:stCondLst>
                      <p:childTnLst>
                        <p:par>
                          <p:cTn id="9" fill="hold">
                            <p:stCondLst>
                              <p:cond delay="0"/>
                            </p:stCondLst>
                            <p:childTnLst>
                              <p:par>
                                <p:cTn id="10" nodeType="clickEffect" fill="hold" presetClass="mediacall" presetID="1">
                                  <p:stCondLst>
                                    <p:cond delay="0"/>
                                  </p:stCondLst>
                                  <p:childTnLst>
                                    <p:cmd type="call" cmd="playFrom(0.0)">
                                      <p:cBhvr>
                                        <p:cTn id="11" dur="5000"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nry was born a slave and did not know how old he was.</a:t>
            </a:r>
            <a:endParaRPr b="0" lang="en-US" sz="4000" spc="-1" strike="noStrike">
              <a:solidFill>
                <a:srgbClr val="000000"/>
              </a:solidFill>
              <a:latin typeface="Arial"/>
            </a:endParaRPr>
          </a:p>
        </p:txBody>
      </p:sp>
      <p:pic>
        <p:nvPicPr>
          <p:cNvPr id="46" name="" descr="Henry's Freedom Box"/>
          <p:cNvPicPr/>
          <p:nvPr/>
        </p:nvPicPr>
        <p:blipFill>
          <a:blip r:embed="rId1"/>
          <a:stretch/>
        </p:blipFill>
        <p:spPr>
          <a:xfrm>
            <a:off x="2438280" y="1676520"/>
            <a:ext cx="5181840" cy="4876560"/>
          </a:xfrm>
          <a:prstGeom prst="rect">
            <a:avLst/>
          </a:prstGeom>
          <a:ln w="0">
            <a:noFill/>
          </a:ln>
        </p:spPr>
      </p:pic>
      <p:pic>
        <p:nvPicPr>
          <p:cNvPr id="47" name="" descr="">
            <a:hlinkClick r:id="" action="ppaction://media"/>
          </p:cNvPr>
          <p:cNvPicPr/>
          <p:nvPr>
            <a:vide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47"/>
                    </p:tgtEl>
                  </p:cond>
                </p:stCondLst>
                <p:childTnLst>
                  <p:par>
                    <p:cTn id="14" fill="hold">
                      <p:stCondLst>
                        <p:cond evt="onClick">
                          <p:tgtEl>
                            <p:spTgt spid="47"/>
                          </p:tgtEl>
                        </p:cond>
                      </p:stCondLst>
                      <p:childTnLst>
                        <p:par>
                          <p:cTn id="15" fill="hold">
                            <p:stCondLst>
                              <p:cond delay="0"/>
                            </p:stCondLst>
                            <p:childTnLst>
                              <p:par>
                                <p:cTn id="16" nodeType="clickEffect" fill="hold" presetClass="mediacall" presetID="1">
                                  <p:stCondLst>
                                    <p:cond delay="0"/>
                                  </p:stCondLst>
                                  <p:childTnLst>
                                    <p:cmd type="call" cmd="playFrom(0.0)">
                                      <p:cBhvr>
                                        <p:cTn id="17" dur="500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nry worked as a slave in a big house with his brother’s and sister’s.</a:t>
            </a:r>
            <a:endParaRPr b="0" lang="en-US" sz="4000" spc="-1" strike="noStrike">
              <a:solidFill>
                <a:srgbClr val="000000"/>
              </a:solidFill>
              <a:latin typeface="Arial"/>
            </a:endParaRPr>
          </a:p>
        </p:txBody>
      </p:sp>
      <p:pic>
        <p:nvPicPr>
          <p:cNvPr id="49" name="" descr=""/>
          <p:cNvPicPr/>
          <p:nvPr/>
        </p:nvPicPr>
        <p:blipFill>
          <a:blip r:embed="rId1"/>
          <a:stretch/>
        </p:blipFill>
        <p:spPr>
          <a:xfrm>
            <a:off x="6934320" y="2362320"/>
            <a:ext cx="1815840" cy="1674720"/>
          </a:xfrm>
          <a:prstGeom prst="rect">
            <a:avLst/>
          </a:prstGeom>
          <a:ln w="0">
            <a:noFill/>
          </a:ln>
        </p:spPr>
      </p:pic>
      <p:pic>
        <p:nvPicPr>
          <p:cNvPr id="50" name="" descr=""/>
          <p:cNvPicPr/>
          <p:nvPr/>
        </p:nvPicPr>
        <p:blipFill>
          <a:blip r:embed="rId2"/>
          <a:stretch/>
        </p:blipFill>
        <p:spPr>
          <a:xfrm>
            <a:off x="6934320" y="4648320"/>
            <a:ext cx="1815840" cy="1674720"/>
          </a:xfrm>
          <a:prstGeom prst="rect">
            <a:avLst/>
          </a:prstGeom>
          <a:ln w="0">
            <a:noFill/>
          </a:ln>
        </p:spPr>
      </p:pic>
      <p:pic>
        <p:nvPicPr>
          <p:cNvPr id="51" name="" descr="">
            <a:hlinkClick r:id="" action="ppaction://media"/>
          </p:cNvPr>
          <p:cNvPicPr/>
          <p:nvPr>
            <a:videoFile r:link="rId3"/>
            <p:extLst>
              <p:ext uri="{DAA4B4D4-6D71-4841-9C94-3DE7FCFB9230}">
                <p14:media r:link="rId4"/>
              </p:ext>
            </p:extLst>
          </p:nvPr>
        </p:nvPicPr>
        <p:blipFill>
          <a:blip r:embed="rId5"/>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path" presetID="0">
                                  <p:stCondLst>
                                    <p:cond delay="0"/>
                                  </p:stCondLst>
                                  <p:childTnLst>
                                    <p:animMotion origin="layout" path="M -0.13698 0.02775 C -0.13924 0.01827 -0.14497 0.01226 -0.14965 0.0044 C -0.15226 -0.00624 -0.14931 0.00162 -0.15608 -0.00601 C -0.15781 -0.00786 -0.15886 -0.01063 -0.16076 -0.01248 C -0.16736 -0.01896 -0.17674 -0.02081 -0.18455 -0.02312 C -0.20573 -0.02242 -0.22691 -0.02266 -0.24809 -0.02081 C -0.25087 -0.02057 -0.27101 -0.00924 -0.27344 -0.00832 C -0.28056 -0.00069 -0.28715 0.0074 -0.2941 0.01503 C -0.30139 0.03191 -0.31024 0.04763 -0.31632 0.06567 C -0.32153 0.08139 -0.325 0.10567 -0.33854 0.11237 C -0.34167 0.11561 -0.35399 0.12925 -0.35764 0.12925 C -0.36198 0.12925 -0.36511 0.1237 -0.36875 0.1207 C -0.37205 0.11815 -0.3783 0.11237 -0.3783 0.11237 C -0.37986 0.10891 -0.38229 0.10567 -0.38299 0.10174 C -0.3849 0.09133 -0.38177 0.07885 -0.38629 0.07006 C -0.38733 0.06798 -0.38958 0.06752 -0.39097 0.06567 C -0.39636 0.05896 -0.40156 0.05156 -0.40677 0.04463 C -0.40868 0.04208 -0.40972 0.03862 -0.41163 0.03607 C -0.41892 0.02659 -0.42882 0.01896 -0.43698 0.01087 C -0.44826 -0.01248 -0.46892 -0.01757 -0.48785 -0.02312 C -0.51823 -0.0215 -0.54809 -0.01942 -0.5783 -0.01456 C -0.59115 -0.00739 -0.58837 -0.01063 -0.59896 0.00232 C -0.60226 0.00648 -0.60851 0.01503 -0.60851 0.01503 C -0.61111 0.02521 -0.61667 0.03561 -0.62118 0.04463 C -0.62309 0.04856 -0.62761 0.04856 -0.63073 0.05087 C -0.63611 0.0548 -0.64063 0.05688 -0.64653 0.05943 C -0.6566 0.05873 -0.66667 0.0585 -0.67674 0.05734 C -0.69427 0.05526 -0.71059 0.03954 -0.72743 0.03399 C -0.72847 0.03261 -0.72917 0.03006 -0.73073 0.02983 C -0.73872 0.02798 -0.7382 0.03839 -0.7434 0.04255 C -0.74479 0.0437 -0.74653 0.04393 -0.74809 0.04463 C -0.76076 0.04347 -0.77396 0.0437 -0.78629 0.03839 C -0.79028 0.02197 -0.78438 0.04162 -0.79254 0.02775 C -0.79358 0.0259 -0.7934 0.02336 -0.7941 0.02128 C -0.79445 0.02035 -0.79514 0.01989 -0.79566 0.01919 E">
                                      <p:cBhvr>
                                        <p:cTn id="23" dur="2000" fill="hold"/>
                                        <p:tgtEl>
                                          <p:spTgt spid="50"/>
                                        </p:tgtEl>
                                      </p:cBhvr>
                                    </p:animMotion>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0">
                                  <p:stCondLst>
                                    <p:cond delay="0"/>
                                  </p:stCondLst>
                                  <p:childTnLst>
                                    <p:animMotion origin="layout" path="M -0.13698 -0.03261 C -0.14809 -0.03723 -0.15278 -0.04856 -0.1625 -0.05573 C -0.17118 -0.0622 -0.18125 -0.0659 -0.19097 -0.06844 C -0.20469 -0.07746 -0.21875 -0.0807 -0.23386 -0.08324 C -0.27951 -0.07885 -0.26788 -0.08301 -0.2974 -0.06636 C -0.31736 -0.04347 -0.32761 -0.02729 -0.35295 -0.01989 C -0.36927 -0.02058 -0.38594 -0.02012 -0.40226 -0.02197 C -0.41563 -0.02359 -0.40226 -0.02729 -0.4132 -0.03052 C -0.4191 -0.03214 -0.42483 -0.03191 -0.43073 -0.03261 C -0.43941 -0.03561 -0.44879 -0.03746 -0.45764 -0.03885 C -0.46823 -0.04047 -0.48941 -0.04301 -0.48941 -0.04301 C -0.50174 -0.04902 -0.51163 -0.0585 -0.52118 -0.07052 C -0.52257 -0.08787 -0.52205 -0.11885 -0.53698 -0.12555 C -0.55139 -0.12047 -0.56163 -0.11908 -0.57344 -0.10867 C -0.57847 -0.10428 -0.58281 -0.09827 -0.58785 -0.09388 C -0.61129 -0.04625 -0.68038 -0.07607 -0.71163 -0.07492 C -0.7132 -0.07214 -0.71458 -0.06914 -0.71632 -0.06636 C -0.71771 -0.06405 -0.71979 -0.06243 -0.72118 -0.06012 C -0.72656 -0.05087 -0.72917 -0.04093 -0.73542 -0.03261 C -0.74063 -0.0333 -0.74618 -0.03261 -0.75122 -0.03469 C -0.75677 -0.037 -0.75799 -0.04856 -0.7592 -0.05365 C -0.76076 -0.05989 -0.77587 -0.06174 -0.7783 -0.0622 C -0.78507 -0.06521 -0.78142 -0.06428 -0.78941 -0.06428 E">
                                      <p:cBhvr>
                                        <p:cTn id="27" dur="2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51"/>
                    </p:tgtEl>
                  </p:cond>
                </p:stCondLst>
                <p:childTnLst>
                  <p:par>
                    <p:cTn id="29" fill="hold">
                      <p:stCondLst>
                        <p:cond evt="onClick">
                          <p:tgtEl>
                            <p:spTgt spid="51"/>
                          </p:tgtEl>
                        </p:cond>
                      </p:stCondLst>
                      <p:childTnLst>
                        <p:par>
                          <p:cTn id="30" fill="hold">
                            <p:stCondLst>
                              <p:cond delay="0"/>
                            </p:stCondLst>
                            <p:childTnLst>
                              <p:par>
                                <p:cTn id="31" nodeType="clickEffect" fill="hold" presetClass="mediacall" presetID="1">
                                  <p:stCondLst>
                                    <p:cond delay="0"/>
                                  </p:stCondLst>
                                  <p:childTnLst>
                                    <p:cmd type="call" cmd="playFrom(0.0)">
                                      <p:cBhvr>
                                        <p:cTn id="32" dur="800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6600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05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day Henry and his mother had gotten called up stairs by their  master. The master was very ill and did not have good news for Henry and his mother. The bad news was that if the master dies Henry would be sold to his  masters son. </a:t>
            </a:r>
            <a:endParaRPr b="0" lang="en-US" sz="4000" spc="-1" strike="noStrike">
              <a:solidFill>
                <a:srgbClr val="000000"/>
              </a:solidFill>
              <a:latin typeface="Arial"/>
            </a:endParaRPr>
          </a:p>
        </p:txBody>
      </p:sp>
      <p:pic>
        <p:nvPicPr>
          <p:cNvPr id="53" name="" descr=""/>
          <p:cNvPicPr/>
          <p:nvPr/>
        </p:nvPicPr>
        <p:blipFill>
          <a:blip r:embed="rId1"/>
          <a:stretch/>
        </p:blipFill>
        <p:spPr>
          <a:xfrm>
            <a:off x="4572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53"/>
                    </p:tgtEl>
                  </p:cond>
                </p:stCondLst>
                <p:childTnLst>
                  <p:par>
                    <p:cTn id="35" fill="hold">
                      <p:stCondLst>
                        <p:cond evt="onClick">
                          <p:tgtEl>
                            <p:spTgt spid="53"/>
                          </p:tgtEl>
                        </p:cond>
                      </p:stCondLst>
                      <p:childTnLst>
                        <p:par>
                          <p:cTn id="36" fill="hold">
                            <p:stCondLst>
                              <p:cond delay="0"/>
                            </p:stCondLst>
                            <p:childTnLst>
                              <p:par>
                                <p:cTn id="37" nodeType="clickEffect" fill="hold" presetClass="mediacall" presetID="1">
                                  <p:stCondLst>
                                    <p:cond delay="0"/>
                                  </p:stCondLst>
                                  <p:childTnLst>
                                    <p:cmd type="call" cmd="playFrom(0.0)">
                                      <p:cBhvr>
                                        <p:cTn id="38" dur="18000"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66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day it was time for Henry to go to the other master.</a:t>
            </a:r>
            <a:endParaRPr b="0" lang="en-US" sz="4000" spc="-1" strike="noStrike">
              <a:solidFill>
                <a:srgbClr val="000000"/>
              </a:solidFill>
              <a:latin typeface="Arial"/>
            </a:endParaRPr>
          </a:p>
        </p:txBody>
      </p:sp>
      <p:pic>
        <p:nvPicPr>
          <p:cNvPr id="55"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restart="whenNotActive" nodeType="interactiveSeq" fill="hold">
                <p:stCondLst>
                  <p:cond evt="onClick">
                    <p:tgtEl>
                      <p:spTgt spid="55"/>
                    </p:tgtEl>
                  </p:cond>
                </p:stCondLst>
                <p:childTnLst>
                  <p:par>
                    <p:cTn id="41" fill="hold">
                      <p:stCondLst>
                        <p:cond evt="onClick">
                          <p:tgtEl>
                            <p:spTgt spid="55"/>
                          </p:tgtEl>
                        </p:cond>
                      </p:stCondLst>
                      <p:childTnLst>
                        <p:par>
                          <p:cTn id="42" fill="hold">
                            <p:stCondLst>
                              <p:cond delay="0"/>
                            </p:stCondLst>
                            <p:childTnLst>
                              <p:par>
                                <p:cTn id="43" nodeType="clickEffect" fill="hold" presetClass="mediacall" presetID="1">
                                  <p:stCondLst>
                                    <p:cond delay="0"/>
                                  </p:stCondLst>
                                  <p:childTnLst>
                                    <p:cmd type="call" cmd="playFrom(0.0)">
                                      <p:cBhvr>
                                        <p:cTn id="44" dur="500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274680"/>
            <a:ext cx="8381880" cy="414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had an idea to run away from his master. His idea was to ship his self somewhere where there was no slavery. SO, he put himself in a box , and ran away.</a:t>
            </a:r>
            <a:endParaRPr b="0" lang="en-US" sz="4400" spc="-1" strike="noStrike">
              <a:solidFill>
                <a:srgbClr val="000000"/>
              </a:solidFill>
              <a:latin typeface="Arial"/>
            </a:endParaRPr>
          </a:p>
        </p:txBody>
      </p:sp>
      <p:pic>
        <p:nvPicPr>
          <p:cNvPr id="57" name="" descr=""/>
          <p:cNvPicPr/>
          <p:nvPr/>
        </p:nvPicPr>
        <p:blipFill>
          <a:blip r:embed="rId1"/>
          <a:stretch/>
        </p:blipFill>
        <p:spPr>
          <a:xfrm>
            <a:off x="426708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57"/>
                    </p:tgtEl>
                  </p:cond>
                </p:stCondLst>
                <p:childTnLst>
                  <p:par>
                    <p:cTn id="47" fill="hold">
                      <p:stCondLst>
                        <p:cond evt="onClick">
                          <p:tgtEl>
                            <p:spTgt spid="57"/>
                          </p:tgtEl>
                        </p:cond>
                      </p:stCondLst>
                      <p:childTnLst>
                        <p:par>
                          <p:cTn id="48" fill="hold">
                            <p:stCondLst>
                              <p:cond delay="0"/>
                            </p:stCondLst>
                            <p:childTnLst>
                              <p:par>
                                <p:cTn id="49" nodeType="clickEffect" fill="hold" presetClass="mediacall" presetID="1">
                                  <p:stCondLst>
                                    <p:cond delay="0"/>
                                  </p:stCondLst>
                                  <p:childTnLst>
                                    <p:cmd type="call" cmd="playFrom(0.0)">
                                      <p:cBhvr>
                                        <p:cTn id="50" dur="17000"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00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hat Henry was never seen again.</a:t>
            </a:r>
            <a:endParaRPr b="0" lang="en-US" sz="4000" spc="-1" strike="noStrike">
              <a:solidFill>
                <a:srgbClr val="000000"/>
              </a:solidFill>
              <a:latin typeface="Arial"/>
            </a:endParaRPr>
          </a:p>
        </p:txBody>
      </p:sp>
      <p:pic>
        <p:nvPicPr>
          <p:cNvPr id="59"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restart="whenNotActive" nodeType="interactiveSeq" fill="hold">
                <p:stCondLst>
                  <p:cond evt="onClick">
                    <p:tgtEl>
                      <p:spTgt spid="59"/>
                    </p:tgtEl>
                  </p:cond>
                </p:stCondLst>
                <p:childTnLst>
                  <p:par>
                    <p:cTn id="53" fill="hold">
                      <p:stCondLst>
                        <p:cond evt="onClick">
                          <p:tgtEl>
                            <p:spTgt spid="59"/>
                          </p:tgtEl>
                        </p:cond>
                      </p:stCondLst>
                      <p:childTnLst>
                        <p:par>
                          <p:cTn id="54" fill="hold">
                            <p:stCondLst>
                              <p:cond delay="0"/>
                            </p:stCondLst>
                            <p:childTnLst>
                              <p:par>
                                <p:cTn id="55" nodeType="clickEffect" fill="hold" presetClass="mediacall" presetID="1">
                                  <p:stCondLst>
                                    <p:cond delay="0"/>
                                  </p:stCondLst>
                                  <p:childTnLst>
                                    <p:cmd type="call" cmd="playFrom(0.0)">
                                      <p:cBhvr>
                                        <p:cTn id="56" dur="400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9:23:34Z</dcterms:created>
  <dc:creator>test</dc:creator>
  <dc:description/>
  <dc:language>en-US</dc:language>
  <cp:lastModifiedBy>test</cp:lastModifiedBy>
  <dcterms:modified xsi:type="dcterms:W3CDTF">2011-03-23T18:35:19Z</dcterms:modified>
  <cp:revision>7</cp:revision>
  <dc:subject/>
  <dc:title>Henry’s Freedom Box</dc:title>
</cp:coreProperties>
</file>